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media/image4.wmf" ContentType="image/x-wmf"/>
  <Override PartName="/ppt/media/image39.wmf" ContentType="image/x-wmf"/>
  <Override PartName="/ppt/media/image9.wmf" ContentType="image/x-wmf"/>
  <Override PartName="/ppt/media/image10.wmf" ContentType="image/x-wmf"/>
  <Override PartName="/ppt/media/image47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21.wmf" ContentType="image/x-wmf"/>
  <Override PartName="/ppt/media/image58.wmf" ContentType="image/x-wmf"/>
  <Override PartName="/ppt/media/image56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72.wmf" ContentType="image/x-wmf"/>
  <Override PartName="/ppt/media/highchime.wav" ContentType="audio/x-wav"/>
  <Override PartName="/ppt/media/image66.wmf" ContentType="image/x-wmf"/>
  <Override PartName="/ppt/media/image71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49.wmf" ContentType="image/x-wmf"/>
  <Override PartName="/ppt/media/CHIMES.WAV" ContentType="audio/x-wav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carbrake.wav" ContentType="audio/x-wav"/>
  <Override PartName="/ppt/media/CAMERA.WAV" ContentType="audio/x-wav"/>
  <Override PartName="/ppt/media/image45.wmf" ContentType="image/x-wmf"/>
  <Override PartName="/ppt/media/image65.wmf" ContentType="image/x-wmf"/>
  <Override PartName="/ppt/media/EXPLODE.WAV" ContentType="audio/x-wav"/>
  <Override PartName="/ppt/media/image1.wmf" ContentType="image/x-wmf"/>
  <Override PartName="/ppt/media/image13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20.wmf" ContentType="image/x-wmf"/>
  <Override PartName="/ppt/media/driveby.wav" ContentType="audio/x-wav"/>
  <Override PartName="/ppt/media/image55.gif" ContentType="image/gif"/>
  <Override PartName="/ppt/media/image15.wmf" ContentType="image/x-wmf"/>
  <Override PartName="/ppt/media/image3.wmf" ContentType="image/x-wmf"/>
  <Override PartName="/ppt/media/image33.wmf" ContentType="image/x-wmf"/>
  <Override PartName="/ppt/media/image34.wmf" ContentType="image/x-wmf"/>
  <Override PartName="/ppt/media/image2.wmf" ContentType="image/x-wmf"/>
  <Override PartName="/ppt/media/image54.gif" ContentType="image/gif"/>
  <Override PartName="/ppt/media/image14.wmf" ContentType="image/x-wmf"/>
  <Override PartName="/ppt/media/LASER.WAV" ContentType="audio/x-wav"/>
  <Override PartName="/ppt/media/image17.wmf" ContentType="image/x-wmf"/>
  <Override PartName="/ppt/media/image5.wmf" ContentType="image/x-wmf"/>
  <Override PartName="/ppt/media/image35.wmf" ContentType="image/x-wmf"/>
  <Override PartName="/ppt/media/image36.wmf" ContentType="image/x-wmf"/>
  <Override PartName="/ppt/media/image18.wmf" ContentType="image/x-wmf"/>
  <Override PartName="/ppt/media/image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A3C-3761-48D8-B700-8B223D9C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541-CC32-4908-ABC6-0A9028C2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C2B-CE26-4508-9187-2C52DC1B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57A-070B-4AA7-ACE9-B2336E2D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F98-D099-4BFE-ADB7-EA000E9D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97A-19EF-439F-8873-328C6D8C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215-452A-4BB8-85D8-C4DBD907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87E-6945-4A22-A8DD-FB912A8E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5A3-CCDF-4D40-89E8-7F53300E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638-03B1-4CA6-B760-470C124F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058-EF91-468F-A054-74791850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834-866A-4D38-89C1-B308F08B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D87C-2DFF-4547-A012-7E117A1F6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audio" Target="../media/WHOOSH.WAV"/><Relationship Id="rId26" Type="http://schemas.openxmlformats.org/officeDocument/2006/relationships/audio" Target="../media/CHIMES.WAV"/><Relationship Id="rId27" Type="http://schemas.openxmlformats.org/officeDocument/2006/relationships/audio" Target="../media/CAMERA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driveby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driveby.wav"/><Relationship Id="rId38" Type="http://schemas.openxmlformats.org/officeDocument/2006/relationships/audio" Target="../media/LASER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audio" Target="../media/EXPLODE.WAV"/><Relationship Id="rId4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.wmf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LASER.WAV"/><Relationship Id="rId37" Type="http://schemas.openxmlformats.org/officeDocument/2006/relationships/audio" Target="../media/driveby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driveby.wav"/><Relationship Id="rId41" Type="http://schemas.openxmlformats.org/officeDocument/2006/relationships/audio" Target="../media/LASER.WAV"/><Relationship Id="rId42" Type="http://schemas.openxmlformats.org/officeDocument/2006/relationships/audio" Target="../media/driveby.wav"/><Relationship Id="rId43" Type="http://schemas.openxmlformats.org/officeDocument/2006/relationships/audio" Target="../media/LASER.WAV"/><Relationship Id="rId44" Type="http://schemas.openxmlformats.org/officeDocument/2006/relationships/audio" Target="../media/EXPLODE.WAV"/><Relationship Id="rId45" Type="http://schemas.openxmlformats.org/officeDocument/2006/relationships/audio" Target="../media/EXPLODE.WAV"/><Relationship Id="rId46" Type="http://schemas.openxmlformats.org/officeDocument/2006/relationships/audio" Target="../media/EXPLODE.WAV"/><Relationship Id="rId4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driveby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driveby.wav"/><Relationship Id="rId35" Type="http://schemas.openxmlformats.org/officeDocument/2006/relationships/audio" Target="../media/LASER.WAV"/><Relationship Id="rId36" Type="http://schemas.openxmlformats.org/officeDocument/2006/relationships/audio" Target="../media/driveby.wav"/><Relationship Id="rId37" Type="http://schemas.openxmlformats.org/officeDocument/2006/relationships/audio" Target="../media/LASER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7.wmf"/><Relationship Id="rId25" Type="http://schemas.openxmlformats.org/officeDocument/2006/relationships/audio" Target="../media/CAMERA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driveby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audio" Target="../media/CAMERA.WAV"/><Relationship Id="rId26" Type="http://schemas.openxmlformats.org/officeDocument/2006/relationships/audio" Target="../media/EXPLODE.WAV"/><Relationship Id="rId27" Type="http://schemas.openxmlformats.org/officeDocument/2006/relationships/audio" Target="../media/CAMERA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driveby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driveby.wav"/><Relationship Id="rId38" Type="http://schemas.openxmlformats.org/officeDocument/2006/relationships/audio" Target="../media/LASER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audio" Target="../media/CAMERA.WAV"/><Relationship Id="rId24" Type="http://schemas.openxmlformats.org/officeDocument/2006/relationships/audio" Target="../media/EXPLODE.WAV"/><Relationship Id="rId25" Type="http://schemas.openxmlformats.org/officeDocument/2006/relationships/audio" Target="../media/CAMERA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driveby.wav"/><Relationship Id="rId29" Type="http://schemas.openxmlformats.org/officeDocument/2006/relationships/audio" Target="../media/EXPLODE.WAV"/><Relationship Id="rId30" Type="http://schemas.openxmlformats.org/officeDocument/2006/relationships/audio" Target="../media/EXPLODE.WAV"/><Relationship Id="rId31" Type="http://schemas.openxmlformats.org/officeDocument/2006/relationships/audio" Target="../media/driveby.wav"/><Relationship Id="rId32" Type="http://schemas.openxmlformats.org/officeDocument/2006/relationships/audio" Target="../media/LASER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2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63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56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63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64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65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66.wmf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highchime.wav"/><Relationship Id="rId34" Type="http://schemas.openxmlformats.org/officeDocument/2006/relationships/audio" Target="../media/highchime.wav"/><Relationship Id="rId35" Type="http://schemas.openxmlformats.org/officeDocument/2006/relationships/audio" Target="../media/CAMERA.WAV"/><Relationship Id="rId36" Type="http://schemas.openxmlformats.org/officeDocument/2006/relationships/audio" Target="../media/WHOOSH.WAV"/><Relationship Id="rId37" Type="http://schemas.openxmlformats.org/officeDocument/2006/relationships/audio" Target="../media/WHOOSH.WAV"/><Relationship Id="rId38" Type="http://schemas.openxmlformats.org/officeDocument/2006/relationships/audio" Target="../media/LASER.WAV"/><Relationship Id="rId39" Type="http://schemas.openxmlformats.org/officeDocument/2006/relationships/audio" Target="../media/WHOOSH.WAV"/><Relationship Id="rId40" Type="http://schemas.openxmlformats.org/officeDocument/2006/relationships/audio" Target="../media/LASER.WAV"/><Relationship Id="rId41" Type="http://schemas.openxmlformats.org/officeDocument/2006/relationships/audio" Target="../media/WHOOSH.WAV"/><Relationship Id="rId42" Type="http://schemas.openxmlformats.org/officeDocument/2006/relationships/audio" Target="../media/LASER.WAV"/><Relationship Id="rId43" Type="http://schemas.openxmlformats.org/officeDocument/2006/relationships/audio" Target="../media/WHOOSH.WAV"/><Relationship Id="rId44" Type="http://schemas.openxmlformats.org/officeDocument/2006/relationships/audio" Target="../media/CAMERA.WAV"/><Relationship Id="rId45" Type="http://schemas.openxmlformats.org/officeDocument/2006/relationships/audio" Target="../media/CAMERA.WAV"/><Relationship Id="rId46" Type="http://schemas.openxmlformats.org/officeDocument/2006/relationships/audio" Target="../media/CAMERA.WAV"/><Relationship Id="rId47" Type="http://schemas.openxmlformats.org/officeDocument/2006/relationships/audio" Target="../media/CAMERA.WAV"/><Relationship Id="rId48" Type="http://schemas.openxmlformats.org/officeDocument/2006/relationships/audio" Target="../media/EXPLODE.WAV"/><Relationship Id="rId49" Type="http://schemas.openxmlformats.org/officeDocument/2006/relationships/audio" Target="../media/EXPLODE.WAV"/><Relationship Id="rId50" Type="http://schemas.openxmlformats.org/officeDocument/2006/relationships/audio" Target="../media/driveby.wav"/><Relationship Id="rId51" Type="http://schemas.openxmlformats.org/officeDocument/2006/relationships/audio" Target="../media/LASER.WAV"/><Relationship Id="rId52" Type="http://schemas.openxmlformats.org/officeDocument/2006/relationships/audio" Target="../media/driveby.wav"/><Relationship Id="rId53" Type="http://schemas.openxmlformats.org/officeDocument/2006/relationships/audio" Target="../media/LASER.WAV"/><Relationship Id="rId54" Type="http://schemas.openxmlformats.org/officeDocument/2006/relationships/audio" Target="../media/EXPLODE.WAV"/><Relationship Id="rId55" Type="http://schemas.openxmlformats.org/officeDocument/2006/relationships/audio" Target="../media/EXPLODE.WAV"/><Relationship Id="rId56" Type="http://schemas.openxmlformats.org/officeDocument/2006/relationships/audio" Target="../media/carbrake.wav"/><Relationship Id="rId5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69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56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69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70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71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72.wmf"/><Relationship Id="rId31" Type="http://schemas.openxmlformats.org/officeDocument/2006/relationships/audio" Target="../media/CHIMES.WAV"/><Relationship Id="rId32" Type="http://schemas.openxmlformats.org/officeDocument/2006/relationships/audio" Target="../media/highchime.wav"/><Relationship Id="rId33" Type="http://schemas.openxmlformats.org/officeDocument/2006/relationships/audio" Target="../media/highchime.wav"/><Relationship Id="rId34" Type="http://schemas.openxmlformats.org/officeDocument/2006/relationships/audio" Target="../media/CAMERA.WAV"/><Relationship Id="rId35" Type="http://schemas.openxmlformats.org/officeDocument/2006/relationships/audio" Target="../media/driveby.wav"/><Relationship Id="rId36" Type="http://schemas.openxmlformats.org/officeDocument/2006/relationships/audio" Target="../media/CAMERA.WAV"/><Relationship Id="rId37" Type="http://schemas.openxmlformats.org/officeDocument/2006/relationships/audio" Target="../media/CAMERA.WAV"/><Relationship Id="rId38" Type="http://schemas.openxmlformats.org/officeDocument/2006/relationships/audio" Target="../media/CAMERA.WAV"/><Relationship Id="rId39" Type="http://schemas.openxmlformats.org/officeDocument/2006/relationships/audio" Target="../media/CAMERA.WAV"/><Relationship Id="rId40" Type="http://schemas.openxmlformats.org/officeDocument/2006/relationships/audio" Target="../media/EXPLODE.WAV"/><Relationship Id="rId41" Type="http://schemas.openxmlformats.org/officeDocument/2006/relationships/audio" Target="../media/EXPLODE.WAV"/><Relationship Id="rId42" Type="http://schemas.openxmlformats.org/officeDocument/2006/relationships/audio" Target="../media/driveby.wav"/><Relationship Id="rId43" Type="http://schemas.openxmlformats.org/officeDocument/2006/relationships/audio" Target="../media/LASER.WAV"/><Relationship Id="rId44" Type="http://schemas.openxmlformats.org/officeDocument/2006/relationships/audio" Target="../media/driveby.wav"/><Relationship Id="rId45" Type="http://schemas.openxmlformats.org/officeDocument/2006/relationships/audio" Target="../media/LASER.WAV"/><Relationship Id="rId46" Type="http://schemas.openxmlformats.org/officeDocument/2006/relationships/audio" Target="../media/EXPLODE.WAV"/><Relationship Id="rId47" Type="http://schemas.openxmlformats.org/officeDocument/2006/relationships/audio" Target="../media/EXPLODE.WAV"/><Relationship Id="rId48" Type="http://schemas.openxmlformats.org/officeDocument/2006/relationships/audio" Target="../media/carbrake.wav"/><Relationship Id="rId4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20560" y="1284120"/>
          <a:ext cx="7280280" cy="5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1284120"/>
                    <a:ext cx="728028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720880" y="3200400"/>
          <a:ext cx="124308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0880" y="3200400"/>
                    <a:ext cx="12430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505320" y="4021200"/>
          <a:ext cx="6094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402120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724280" y="3200400"/>
          <a:ext cx="124308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3200400"/>
                    <a:ext cx="12430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567160" y="3200400"/>
            <a:ext cx="15238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038480" y="3962520"/>
          <a:ext cx="371808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3962520"/>
                    <a:ext cx="37180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648320" y="3200400"/>
            <a:ext cx="12952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120" y="1752480"/>
          <a:ext cx="186840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1752480"/>
                    <a:ext cx="18684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589120" y="2514600"/>
          <a:ext cx="1549440" cy="619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89120" y="2514600"/>
                    <a:ext cx="15494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19920" y="1752480"/>
          <a:ext cx="186840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19920" y="1752480"/>
                    <a:ext cx="1868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90720" y="2438280"/>
            <a:ext cx="67816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114800" y="2514600"/>
          <a:ext cx="1962000" cy="620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14800" y="2514600"/>
                    <a:ext cx="19620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514600" y="1752480"/>
          <a:ext cx="1816200" cy="61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4600" y="1752480"/>
                    <a:ext cx="18162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267080" y="1752480"/>
          <a:ext cx="1817640" cy="614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67080" y="1752480"/>
                    <a:ext cx="18176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386160" y="4800600"/>
          <a:ext cx="2743200" cy="803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86160" y="4800600"/>
                    <a:ext cx="27432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04920" y="1143000"/>
                <a:ext cx="76197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3" name=""/>
          <p:cNvGraphicFramePr/>
          <p:nvPr/>
        </p:nvGraphicFramePr>
        <p:xfrm>
          <a:off x="4572000" y="3962520"/>
          <a:ext cx="150336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962520"/>
                    <a:ext cx="1503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352680" y="4878360"/>
          <a:ext cx="51588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878360"/>
                    <a:ext cx="5158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514600" y="3962520"/>
          <a:ext cx="150336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962520"/>
                    <a:ext cx="1503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548240" y="3962520"/>
            <a:ext cx="15238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35440" y="4800600"/>
          <a:ext cx="366552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35440" y="4800600"/>
                    <a:ext cx="36655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666880" y="3962520"/>
            <a:ext cx="12956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48320" y="2438280"/>
          <a:ext cx="2179440" cy="6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2438280"/>
                    <a:ext cx="21794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693880" y="3276720"/>
          <a:ext cx="1187640" cy="61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93880" y="3276720"/>
                    <a:ext cx="118764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514600" y="2438280"/>
          <a:ext cx="217980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14600" y="2438280"/>
                    <a:ext cx="21798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914400" y="3200400"/>
            <a:ext cx="67816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62520" y="3276720"/>
          <a:ext cx="2322360" cy="62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62520" y="3276720"/>
                    <a:ext cx="2322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553080" y="2438280"/>
          <a:ext cx="1193760" cy="614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53080" y="2438280"/>
                    <a:ext cx="11937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219320" y="2438280"/>
          <a:ext cx="1193760" cy="61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19320" y="2438280"/>
                    <a:ext cx="11937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090960" y="5410080"/>
          <a:ext cx="2809800" cy="80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90960" y="5410080"/>
                    <a:ext cx="280980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600200" y="1828800"/>
          <a:ext cx="1135080" cy="566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600200" y="1828800"/>
                    <a:ext cx="11350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666880" y="1828800"/>
          <a:ext cx="1986120" cy="566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66880" y="1828800"/>
                    <a:ext cx="19861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648320" y="1828800"/>
          <a:ext cx="2930400" cy="566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48320" y="1828800"/>
                    <a:ext cx="29304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7200" y="1143000"/>
                <a:ext cx="64771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7" name=""/>
          <p:cNvGraphicFramePr/>
          <p:nvPr/>
        </p:nvGraphicFramePr>
        <p:xfrm>
          <a:off x="3505320" y="3886200"/>
          <a:ext cx="150336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886200"/>
                    <a:ext cx="1503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94160" y="4724280"/>
          <a:ext cx="515880" cy="6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4160" y="4724280"/>
                    <a:ext cx="5158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715000" y="3886200"/>
          <a:ext cx="150336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3886200"/>
                    <a:ext cx="1503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481560" y="3886200"/>
            <a:ext cx="15238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851360" y="4724280"/>
          <a:ext cx="3718080" cy="621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1360" y="4724280"/>
                    <a:ext cx="37180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867280" y="3886200"/>
            <a:ext cx="12956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181480" y="2438280"/>
          <a:ext cx="1868760" cy="6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2438280"/>
                    <a:ext cx="18687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200400" y="3200400"/>
          <a:ext cx="1859040" cy="77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0400" y="3200400"/>
                    <a:ext cx="18590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429000" y="2438280"/>
          <a:ext cx="186840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2438280"/>
                    <a:ext cx="1868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676520" y="3200400"/>
            <a:ext cx="5715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03640" y="3200400"/>
          <a:ext cx="2322720" cy="62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03640" y="3200400"/>
                    <a:ext cx="2322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098960" y="5234040"/>
          <a:ext cx="2876400" cy="1004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98960" y="5234040"/>
                    <a:ext cx="287640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828800" y="1828800"/>
          <a:ext cx="1703520" cy="708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28800" y="1828800"/>
                    <a:ext cx="17035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505320" y="1828800"/>
          <a:ext cx="1701720" cy="566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05320" y="1828800"/>
                    <a:ext cx="17017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181480" y="1828800"/>
          <a:ext cx="1797120" cy="566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181480" y="1828800"/>
                    <a:ext cx="17971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219320"/>
          <a:ext cx="685800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68580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746440" y="3352680"/>
          <a:ext cx="11923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6440" y="3352680"/>
                    <a:ext cx="11923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429000" y="4114800"/>
          <a:ext cx="465120" cy="67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114800"/>
                    <a:ext cx="4651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800600" y="3352680"/>
          <a:ext cx="11923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352680"/>
                    <a:ext cx="11923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567160" y="3352680"/>
            <a:ext cx="15238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86200" y="4114800"/>
          <a:ext cx="402588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4114800"/>
                    <a:ext cx="40258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724280" y="3352680"/>
            <a:ext cx="12956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63640" y="1803240"/>
          <a:ext cx="1817640" cy="66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63640" y="1803240"/>
                    <a:ext cx="18176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590920" y="2590920"/>
          <a:ext cx="1496880" cy="671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2590920"/>
                    <a:ext cx="14968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114800" y="1752480"/>
          <a:ext cx="1816200" cy="663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1752480"/>
                    <a:ext cx="181620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143000" y="2514600"/>
            <a:ext cx="6172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038480" y="2666880"/>
          <a:ext cx="2013120" cy="62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38480" y="2666880"/>
                    <a:ext cx="201312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276720" y="4876920"/>
          <a:ext cx="3679560" cy="871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76720" y="4876920"/>
                    <a:ext cx="36795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514600" y="1828800"/>
          <a:ext cx="1557360" cy="614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14600" y="1828800"/>
                    <a:ext cx="15573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762520" y="1828800"/>
          <a:ext cx="1557360" cy="614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62520" y="1828800"/>
                    <a:ext cx="15573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68320" y="1243080"/>
          <a:ext cx="603576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1243080"/>
                    <a:ext cx="603576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724280" y="3809880"/>
          <a:ext cx="5191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8098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200400" y="4724280"/>
          <a:ext cx="51588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4724280"/>
                    <a:ext cx="5158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156120" y="3809880"/>
          <a:ext cx="5191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56120" y="38098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468680" y="3809880"/>
            <a:ext cx="941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9880" y="4648320"/>
          <a:ext cx="196056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4648320"/>
                    <a:ext cx="19605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2743200" y="3809880"/>
            <a:ext cx="12952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962520" y="2286000"/>
          <a:ext cx="150480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62520" y="2286000"/>
                    <a:ext cx="15048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825640" y="3225960"/>
          <a:ext cx="1084320" cy="618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25640" y="3225960"/>
                    <a:ext cx="10843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438280" y="2286000"/>
          <a:ext cx="150336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38280" y="2286000"/>
                    <a:ext cx="1503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171440" y="3124080"/>
            <a:ext cx="61722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038480" y="3200400"/>
          <a:ext cx="1341720" cy="620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38480" y="3200400"/>
                    <a:ext cx="1341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5334120" y="2286000"/>
          <a:ext cx="1506240" cy="614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34120" y="2286000"/>
                    <a:ext cx="15062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015920" y="2286000"/>
          <a:ext cx="1506600" cy="614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15920" y="2286000"/>
                    <a:ext cx="15066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752480" y="1752480"/>
          <a:ext cx="4973760" cy="579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52480" y="1752480"/>
                    <a:ext cx="497376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 txBox="1"/>
          <p:nvPr/>
        </p:nvSpPr>
        <p:spPr>
          <a:xfrm>
            <a:off x="7086600" y="838080"/>
            <a:ext cx="1609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ultipl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10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1143000"/>
          <a:ext cx="60357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60357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151600" y="3733920"/>
          <a:ext cx="103824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1600" y="3733920"/>
                    <a:ext cx="10382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886200" y="4570560"/>
          <a:ext cx="515880" cy="67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570560"/>
                    <a:ext cx="5158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454560" y="3733920"/>
          <a:ext cx="103824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54560" y="3733920"/>
                    <a:ext cx="10382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5154480" y="3733920"/>
            <a:ext cx="941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343400" y="4495680"/>
          <a:ext cx="3664080" cy="621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495680"/>
                    <a:ext cx="36640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429000" y="3733920"/>
            <a:ext cx="9907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800600" y="2209680"/>
          <a:ext cx="1504800" cy="76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2209680"/>
                    <a:ext cx="15048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657600" y="3048120"/>
          <a:ext cx="774720" cy="618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57600" y="3048120"/>
                    <a:ext cx="7747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2209680" y="2209680"/>
          <a:ext cx="1503360" cy="766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09680" y="2209680"/>
                    <a:ext cx="15033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676520" y="2971800"/>
            <a:ext cx="51051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0" y="3048120"/>
          <a:ext cx="1909800" cy="776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2000" y="3048120"/>
                    <a:ext cx="19098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286000" y="1676520"/>
          <a:ext cx="3959280" cy="723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86000" y="1676520"/>
                    <a:ext cx="3959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 txBox="1"/>
          <p:nvPr/>
        </p:nvSpPr>
        <p:spPr>
          <a:xfrm>
            <a:off x="7086600" y="838080"/>
            <a:ext cx="1609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ultipl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100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700440" y="5257800"/>
          <a:ext cx="2743200" cy="1004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00440" y="5257800"/>
                    <a:ext cx="274320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88240" y="439560"/>
            <a:ext cx="2252520" cy="2998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324480" y="380880"/>
            <a:ext cx="2998800" cy="2998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25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v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0" y="4572000"/>
          <a:ext cx="54936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72000"/>
                    <a:ext cx="5493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0" y="990720"/>
            <a:ext cx="6781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7. While dining at a restaurant, you want to leave a 15% tip. You have a total of $16.00 to spend. What is your price limit for the dinner plus a tip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752480" y="3429000"/>
          <a:ext cx="60192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3429000"/>
                    <a:ext cx="6019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0" y="2666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276720"/>
            <a:ext cx="144756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Price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3276720"/>
            <a:ext cx="15242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rice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715000" y="3656160"/>
          <a:ext cx="60948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3656160"/>
                    <a:ext cx="6094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248520" y="3505320"/>
            <a:ext cx="2590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otal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676520" y="4495680"/>
          <a:ext cx="609480" cy="71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4495680"/>
                    <a:ext cx="60948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26708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Your price limit is $13.9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692440" y="2209680"/>
          <a:ext cx="3414600" cy="711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92440" y="2209680"/>
                    <a:ext cx="34146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133720" y="4419720"/>
          <a:ext cx="2382840" cy="66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33720" y="4419720"/>
                    <a:ext cx="23828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2286000" y="3276720"/>
            <a:ext cx="114300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ip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505320" y="3581280"/>
          <a:ext cx="492120" cy="547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05320" y="3581280"/>
                    <a:ext cx="4921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57200" y="4495680"/>
          <a:ext cx="1446120" cy="60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200" y="4495680"/>
                    <a:ext cx="14461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990720" y="5867280"/>
          <a:ext cx="1087200" cy="61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90720" y="5867280"/>
                    <a:ext cx="10872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851360" y="4572000"/>
          <a:ext cx="569880" cy="673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51360" y="4572000"/>
                    <a:ext cx="5698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2743200" y="5867280"/>
          <a:ext cx="108900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43200" y="5867280"/>
                    <a:ext cx="1089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936720" y="586728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334120" y="4495680"/>
          <a:ext cx="2219040" cy="621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334120" y="4495680"/>
                    <a:ext cx="22190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2743200" y="586728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762120" y="5105520"/>
          <a:ext cx="1446120" cy="777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62120" y="5105520"/>
                    <a:ext cx="14461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133720" y="5105520"/>
          <a:ext cx="1962000" cy="620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133720" y="5105520"/>
                    <a:ext cx="19620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888240" y="515880"/>
            <a:ext cx="2252520" cy="2998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998800" cy="2998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68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v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0" name=""/>
          <p:cNvGraphicFramePr/>
          <p:nvPr/>
        </p:nvGraphicFramePr>
        <p:xfrm>
          <a:off x="0" y="4572000"/>
          <a:ext cx="54936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72000"/>
                    <a:ext cx="5493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0" y="990720"/>
            <a:ext cx="6629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8. While dining at a restaurant, you want to leave a 20% tip. You have a total of $14.00 to spend. What is your price limit for the dinner plus a tip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676520" y="4495680"/>
          <a:ext cx="609480" cy="7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95680"/>
                    <a:ext cx="60948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426708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Your price limit is $11.6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692440" y="2209680"/>
          <a:ext cx="3414600" cy="71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92440" y="2209680"/>
                    <a:ext cx="34146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2133720" y="4419720"/>
          <a:ext cx="2382840" cy="66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4419720"/>
                    <a:ext cx="23828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0" name=""/>
          <p:cNvGrpSpPr/>
          <p:nvPr/>
        </p:nvGrpSpPr>
        <p:grpSpPr>
          <a:xfrm>
            <a:off x="0" y="2666880"/>
            <a:ext cx="8839080" cy="1678680"/>
            <a:chOff x="0" y="2666880"/>
            <a:chExt cx="8839080" cy="1678680"/>
          </a:xfrm>
        </p:grpSpPr>
        <p:graphicFrame>
          <p:nvGraphicFramePr>
            <p:cNvPr id="281" name=""/>
            <p:cNvGraphicFramePr/>
            <p:nvPr/>
          </p:nvGraphicFramePr>
          <p:xfrm>
            <a:off x="1752480" y="3429000"/>
            <a:ext cx="601920" cy="603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52480" y="3429000"/>
                      <a:ext cx="601920" cy="60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"/>
            <p:cNvSpPr/>
            <p:nvPr/>
          </p:nvSpPr>
          <p:spPr>
            <a:xfrm>
              <a:off x="0" y="266688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Times New Roman"/>
                </a:rPr>
                <a:t>Verbal Mod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4920" y="3276720"/>
              <a:ext cx="1447560" cy="103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Price Limi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38480" y="3276720"/>
              <a:ext cx="1524240" cy="106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Price Lim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6" name=""/>
            <p:cNvGraphicFramePr/>
            <p:nvPr/>
          </p:nvGraphicFramePr>
          <p:xfrm>
            <a:off x="5715000" y="3656160"/>
            <a:ext cx="609480" cy="492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15000" y="3656160"/>
                      <a:ext cx="60948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"/>
            <p:cNvSpPr/>
            <p:nvPr/>
          </p:nvSpPr>
          <p:spPr>
            <a:xfrm>
              <a:off x="6248520" y="3505320"/>
              <a:ext cx="259056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Total Pri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6000" y="3276720"/>
              <a:ext cx="1143000" cy="103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Tip 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0" name=""/>
            <p:cNvGraphicFramePr/>
            <p:nvPr/>
          </p:nvGraphicFramePr>
          <p:xfrm>
            <a:off x="3505320" y="3581280"/>
            <a:ext cx="492120" cy="547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505320" y="3581280"/>
                      <a:ext cx="492120" cy="5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2" name=""/>
          <p:cNvGraphicFramePr/>
          <p:nvPr/>
        </p:nvGraphicFramePr>
        <p:xfrm>
          <a:off x="433440" y="4495680"/>
          <a:ext cx="1495440" cy="60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3440" y="4495680"/>
                    <a:ext cx="14954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119240" y="5867280"/>
          <a:ext cx="828720" cy="61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19240" y="586728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4851360" y="4572000"/>
          <a:ext cx="569880" cy="673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51360" y="4572000"/>
                    <a:ext cx="5698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2873520" y="5867280"/>
          <a:ext cx="82836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73520" y="5867280"/>
                    <a:ext cx="828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936720" y="586728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375160" y="4419720"/>
          <a:ext cx="3768840" cy="620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375160" y="4419720"/>
                    <a:ext cx="37688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743200" y="586728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865080" y="5105520"/>
          <a:ext cx="1239840" cy="777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865080" y="5105520"/>
                    <a:ext cx="123984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108160" y="5105520"/>
          <a:ext cx="2014560" cy="620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108160" y="5105520"/>
                    <a:ext cx="20145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07T21:08:17Z</dcterms:modified>
  <cp:revision>190</cp:revision>
  <dc:subject/>
  <dc:title>No Slide Title</dc:title>
</cp:coreProperties>
</file>